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701-CC2D-4F5B-B51A-5805B81F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BB2-F9AB-4F9F-8CE7-353972BF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571-B60E-4DC1-9AB4-FC2C1167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1C1-6F80-4BAC-9E32-CFCBA4D7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ED9-0EB7-4D47-907E-3C4445D8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69E3-8B93-4746-A8FB-DF74CE89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EFDB-3E58-445E-84FA-0B4E6E22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6F9E-D3CC-4CFD-AC7E-947874A5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E223-6F94-43F5-8B17-D368448D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9C75-659C-4796-9253-F0A16FBB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B759-265E-4C95-A23B-996B897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56A-41AA-44C1-981A-EFB5BEC5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CE75-3313-4099-B281-68790D8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CEE4-9AB1-4A11-B9E9-5DB62E8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A0DA-3C72-48E4-9C7A-9903F33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4120-8661-49C7-B223-B68E058A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2A1F-FE09-4C88-9E2D-48530210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3FD-C456-4504-AB5C-6BB6EFE3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E72-603C-4A10-BB70-CCE25E8B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C62-7E46-48E5-8BF4-24C87D48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C79-0A2F-42DB-B1E2-A16D77A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DC7-B942-4A5D-96A1-0D4EF427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0E9-0266-438F-80F2-691F635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9F4-DBF0-4300-A156-43D5054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587-625A-458F-8544-B5A04E0FC7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72C-F4A1-4EAF-BCD7-3755377A11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6.5:  The Rise of Segreg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.E.B. Du Bo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ality on all levels is long overd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A Harvard grad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 after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web_dubois_1918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8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Harpers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odust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migration of newly freed blacks from the south to Kan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93960" y="2103480"/>
            <a:ext cx="5357880" cy="2590920"/>
            <a:chOff x="1893960" y="2103480"/>
            <a:chExt cx="5357880" cy="2590920"/>
          </a:xfrm>
        </p:grpSpPr>
        <p:sp>
          <p:nvSpPr>
            <p:cNvPr id="146" name=""/>
            <p:cNvSpPr/>
            <p:nvPr/>
          </p:nvSpPr>
          <p:spPr>
            <a:xfrm>
              <a:off x="1893960" y="210348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93960" y="2103480"/>
              <a:ext cx="53578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exoduster-pic" descr=""/>
          <p:cNvPicPr/>
          <p:nvPr/>
        </p:nvPicPr>
        <p:blipFill>
          <a:blip r:embed="rId2"/>
          <a:stretch/>
        </p:blipFill>
        <p:spPr>
          <a:xfrm>
            <a:off x="1752480" y="2197080"/>
            <a:ext cx="57913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Black Republican Rule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 that spread throughout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oor whites aligned w/A.A. in the Populist party, then A.A. would have more of a say in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oting in the South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l taxes -$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eracy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father cl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50623976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egregation in the South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regation – separation of r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imination – better treatment of one group on a basis other than mer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m Crow Laws- laws created to enforce se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00" y="2023920"/>
            <a:ext cx="9001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drinking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4197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USAjimcrow1" descr=""/>
          <p:cNvPicPr/>
          <p:nvPr/>
        </p:nvPicPr>
        <p:blipFill>
          <a:blip r:embed="rId1"/>
          <a:stretch/>
        </p:blipFill>
        <p:spPr>
          <a:xfrm>
            <a:off x="4724280" y="0"/>
            <a:ext cx="3486240" cy="4191120"/>
          </a:xfrm>
          <a:prstGeom prst="rect">
            <a:avLst/>
          </a:prstGeom>
          <a:ln w="0">
            <a:noFill/>
          </a:ln>
        </p:spPr>
      </p:pic>
      <p:pic>
        <p:nvPicPr>
          <p:cNvPr id="161" name="thejimcrowlaws-front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879640" cy="3108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852560"/>
            <a:ext cx="8751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52560"/>
            <a:ext cx="5715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44280" tIns="-4392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civil-rights-movement-3" descr="Linda Brown with her parents Leola and Oliver and little sister Terry in front of their house."/>
          <p:cNvPicPr/>
          <p:nvPr/>
        </p:nvPicPr>
        <p:blipFill>
          <a:blip r:embed="rId3"/>
          <a:stretch/>
        </p:blipFill>
        <p:spPr>
          <a:xfrm>
            <a:off x="0" y="3703680"/>
            <a:ext cx="4572000" cy="3154320"/>
          </a:xfrm>
          <a:prstGeom prst="rect">
            <a:avLst/>
          </a:prstGeom>
          <a:ln w="0">
            <a:noFill/>
          </a:ln>
        </p:spPr>
      </p:pic>
      <p:pic>
        <p:nvPicPr>
          <p:cNvPr id="167" name="whitesonly" descr=""/>
          <p:cNvPicPr/>
          <p:nvPr/>
        </p:nvPicPr>
        <p:blipFill>
          <a:blip r:embed="rId4"/>
          <a:stretch/>
        </p:blipFill>
        <p:spPr>
          <a:xfrm>
            <a:off x="6400800" y="4371840"/>
            <a:ext cx="2911320" cy="24861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im Crow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989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Times New Roman"/>
              </a:rPr>
              <a:t>Plessy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v. </a:t>
            </a:r>
            <a:r>
              <a:rPr b="0" i="1" lang="en-US" sz="3600" spc="-1" strike="noStrike">
                <a:solidFill>
                  <a:srgbClr val="ffcc00"/>
                </a:solidFill>
                <a:latin typeface="Times New Roman"/>
              </a:rPr>
              <a:t>Fergus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the doctrine of “separate but equ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re anything wrong with this doctr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lessy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A Respo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a B. Wel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paigned agains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ynch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hangings without proper court procee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ida_b_wells" descr="ida_b_wells"/>
          <p:cNvPicPr/>
          <p:nvPr/>
        </p:nvPicPr>
        <p:blipFill>
          <a:blip r:embed="rId2"/>
          <a:stretch/>
        </p:blipFill>
        <p:spPr>
          <a:xfrm>
            <a:off x="4800600" y="1981080"/>
            <a:ext cx="363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ooker T. Washingt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on economic equality not civi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criticized for being an “Uncle To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 into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ooker-t-washington-150x210" descr="Booker T. Washington"/>
          <p:cNvPicPr/>
          <p:nvPr/>
        </p:nvPicPr>
        <p:blipFill>
          <a:blip r:embed="rId1"/>
          <a:stretch/>
        </p:blipFill>
        <p:spPr>
          <a:xfrm>
            <a:off x="5029200" y="1828800"/>
            <a:ext cx="3306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10-11T00:31:32Z</dcterms:modified>
  <cp:revision>3</cp:revision>
  <dc:subject/>
  <dc:title>PowerPoint Presentation</dc:title>
</cp:coreProperties>
</file>